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639-B719-4963-B481-33AABEC5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792-CEC2-4C81-9FEF-6B51912E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DC81-245C-4150-A0B5-3C5325FA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1BD-D826-4000-84E1-68CFAC32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7FF-AA6E-42A8-8178-136E3C69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156-E6AA-4EB3-BC5F-645E1450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E65-45F8-414D-8BCA-F0B48271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230-321B-4AD9-88A9-3D70DFBC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98B-12CA-4C67-825A-F487B6B8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BFF-2316-46C9-912E-36B200A3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976-4B49-48F4-8D60-184FEE9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7793-E68E-4D28-8AD5-6DFDD155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8CE-7B79-4ADC-AB54-604BEB693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410080"/>
            <a:ext cx="1905120" cy="9907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1904760" cy="175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2322360" cy="3224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1480" y="6172200"/>
            <a:ext cx="1067040" cy="45720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181480"/>
            <a:ext cx="2514600" cy="83844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3124080"/>
            <a:ext cx="1676520" cy="9907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4572000"/>
            <a:ext cx="1523880" cy="3049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5791320"/>
            <a:ext cx="2286000" cy="106668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3733920"/>
            <a:ext cx="1447560" cy="99036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2819520"/>
            <a:ext cx="1600200" cy="68580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1981080"/>
            <a:ext cx="1676520" cy="3049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1295280"/>
            <a:ext cx="1600200" cy="1067040"/>
          </a:xfrm>
          <a:prstGeom prst="rect">
            <a:avLst/>
          </a:prstGeom>
          <a:solidFill>
            <a:srgbClr val="eaee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merican Classic"/>
              </a:rPr>
              <a:t>DCS A-10C Warthog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AS Cougar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Speedbrak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2335320" cy="324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15200" y="1295280"/>
            <a:ext cx="1676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H1-Aircraft Tr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: Trim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: Trim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: Left Wing 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: Right Wing 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0120" y="3733920"/>
            <a:ext cx="1523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H3-DMS Data Mg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: DMS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: DMS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: DMS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: DM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18148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3- Multi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D: Nose Wheel Steering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PS: Laser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:   Refuel Dis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617220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4-Auto 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ggle On/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45720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TG1/2-Fire Cann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281952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1 - Master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: Toggle H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:  AA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853240"/>
            <a:ext cx="236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H4-Counter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: CMS Start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: CMS Stop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: CMS Nex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: CMS Previous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1981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2-Weapon Rel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12408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H2-TMS Target Mg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: TMS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: TMS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: TMS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: TM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419720"/>
            <a:ext cx="2133720" cy="60948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44197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Speedbr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9 - Speed Brakes Extend T10 - Speed Brakes Re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066680"/>
            <a:ext cx="1905120" cy="99072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0666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Coolie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- Up: Coolie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3 - Down: Coolie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4 - Right: Coolie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5 - Left: Coolie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2819520"/>
            <a:ext cx="1600200" cy="609480"/>
          </a:xfrm>
          <a:prstGeom prst="rect">
            <a:avLst/>
          </a:prstGeom>
          <a:solidFill>
            <a:srgbClr val="e6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28195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China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7 – China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8 – China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5410080"/>
            <a:ext cx="2057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50021"/>
                </a:solidFill>
                <a:uFillTx/>
                <a:latin typeface="Arial"/>
              </a:rPr>
              <a:t>Target Designation C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w Up: TDC 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w Down: TDC 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w Left: TDC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ew Right: TDC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3T20:31:37Z</dcterms:created>
  <dc:creator>Dale Schmidtbleicher</dc:creator>
  <dc:description/>
  <dc:language>en-US</dc:language>
  <cp:lastModifiedBy>Dale Schmidtbleicher</cp:lastModifiedBy>
  <dcterms:modified xsi:type="dcterms:W3CDTF">2011-04-18T22:04:47Z</dcterms:modified>
  <cp:revision>27</cp:revision>
  <dc:subject/>
  <dc:title>DCS A-10C Warthog HOTAS Cougar  Dale “Speedbrake” Schmidtbleicher</dc:title>
</cp:coreProperties>
</file>